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EC5-089B-4CF3-80CB-707929E3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800-D07E-4F2C-98C8-39431970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D8B-04BC-4F1F-972B-A2FE1932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E3D-B4DB-4158-B1C3-ABDC0603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CFF4-3DB2-4067-AA44-CB396A89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DB9-E67D-4C5A-9F28-CB9688A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86A-FE21-4521-B84B-2443ABF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EC1F-8C23-4755-9584-B336FF67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014-372F-4524-A909-88B3F4D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2723-9692-4D09-8D9C-5DD3459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5E04-ACAA-4971-BAD0-56CE8A9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E44-11DD-49B2-827A-E447D85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067-41ED-4708-B79D-E046AD5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D33F-7D99-4020-9394-598BB2F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F000-D428-41AB-95E0-34884DED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A7ED-4BD3-42C4-B58C-C93D6CBF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AF3-46A4-41DB-BB70-81A49836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3B0-1C45-4266-A7DE-6BF95F0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1BF-3A53-4CD0-AEF8-BDB798F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C5E-1920-48DB-86FE-C2A226E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5C6-CE42-45FE-8816-C6AD5AB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A7D-7CC9-4AC2-96BC-2D65C3C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45C-5585-4102-852A-3D935A7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696-B640-4419-97CD-CF56BDC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768-48BA-47FD-8636-DF9AC4336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F81-47CE-46F9-878A-3FC169FC6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Wonderful World of Geograph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do you know about where you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 to Geograp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do you know ab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ern Hemisp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ted States of Ame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at State of Alab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stern Hemisphe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countries that consist of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you ever traveled outside of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b7"/>
                </a:solidFill>
                <a:latin typeface="Arial Black"/>
              </a:rPr>
              <a:t>The United States of America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states and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aba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tate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it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some key landforms and where are they loc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night’s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1.1-1.2 (pp.11-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1-1.2 boldface te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. 4 in your workbook (Geoterms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pace username and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9:00:18Z</dcterms:created>
  <dc:creator>vevans</dc:creator>
  <dc:description/>
  <dc:language>en-US</dc:language>
  <cp:lastModifiedBy>vevans</cp:lastModifiedBy>
  <dcterms:modified xsi:type="dcterms:W3CDTF">2009-08-17T15:03:30Z</dcterms:modified>
  <cp:revision>6</cp:revision>
  <dc:subject/>
  <dc:title>6th Grade Geography</dc:title>
</cp:coreProperties>
</file>